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344-C3B1-43BB-981D-DD65DAA0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943-A941-4D1A-8029-DE52A901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2B2-0798-4E48-B8A7-A97D7CF3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141-D84D-436E-9937-3C5FC5F1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1D8D-E729-4ED8-8E7C-CCFE8AA2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24DE-976D-48CE-B4BD-B2DE89B7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690E-D3EB-404F-8EC6-BB6588ED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53CE-D9BB-418C-A7DE-2871E188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C803-C6EB-49EE-A279-B3FAD1D8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380C-D0C5-4219-A0F6-B49C4D6D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B232-0F93-4A0A-84D9-A1A69BD7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888A-FD2B-495D-AA68-2A601666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05E4-DB92-4297-B8D0-F00D6086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AE0A-E4A9-4BB6-A0DB-1F7B10D3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C39B-D16C-4431-92FA-C356E928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8184-883F-4C0E-8E7E-F58931EA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EB36-93C7-4699-A487-03191B2A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5B627-354B-4843-B038-F0B7AEC3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FD4B9-3C22-47D1-886E-6F179DE3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CB89F-F240-491F-AC92-B021FE73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F46E2-C94B-4CEB-B0CF-9266BBD7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672CE-EBFC-4642-818F-ACBDFD38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B60-E4AC-4B5D-AAE0-E175CCA4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D8D83-2F54-49EE-8B7A-C8194A37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DE21F-BBA2-4500-A81F-430FF488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87DFD-83AB-4C41-A08D-6737E14F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905A1-BFE7-4141-88A6-2AE192D1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8850-03D9-4ACD-97CB-853499A3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F8647-79C4-4F96-994A-331E68F2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DBB25-4A09-439E-94FB-FCA6E10D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325A1-205A-4EB3-8342-A42678A3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01AF5-A250-499F-938C-19236C87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ECEFB-2644-49B3-AE44-B4FA7434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7154-EF80-4BC4-9347-0FDCF021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67692-967A-4927-8831-B57E7C79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117C1-37E3-4DDB-81F8-31897455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33AF0-54DC-4D07-A209-FA12A1E8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8BE8F-2A2C-44A9-9738-AA4F6DC7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7F10A-9FE8-47CC-8907-CF4B8040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C9A79-17E4-4D53-8A5C-9023D6A8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9F259-C5AD-4EE1-971C-177B4304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9AF57-EF5D-4DF8-8D59-BB0A74C8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10962-A2EE-415D-9D42-5501B368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BCE-AAB8-4FA1-861A-475E9CCB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35B-33C0-4E54-803C-742E97E0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185-3EDB-427A-97BA-4B515C54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44E-CD68-4506-A6B5-1C0CD10C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7FF-21D2-42FA-B08B-E59F74DA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800" spc="-1" strike="noStrike" cap="all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CEFF5B8-638F-4418-954C-9A88E15142A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r" rtl="1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494173BC-531C-4379-8F09-3D688F6FEE8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2200" spc="-1" strike="noStrike">
                <a:solidFill>
                  <a:srgbClr val="f3da8c"/>
                </a:solidFill>
                <a:latin typeface="Lucida Sans"/>
              </a:rPr>
              <a:t>Click to edit Master title sty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3007800" cy="460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r" rtl="1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r" rtl="1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7EA1CBA9-8A1B-42E4-B471-509D72191AB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3E36E93C-8F62-4CEA-85DB-77D43314467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581600" cy="4876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2800" spc="-1" strike="noStrike" cap="all">
                <a:solidFill>
                  <a:srgbClr val="ff8a3b"/>
                </a:solidFill>
                <a:latin typeface="Comic Sans MS"/>
              </a:rPr>
              <a:t>New Farm Company for Marketing and Agricultural processing (NFC)</a:t>
            </a:r>
            <a:br>
              <a:rPr sz="3600"/>
            </a:br>
            <a:br>
              <a:rPr sz="3600"/>
            </a:br>
            <a:r>
              <a:rPr b="1" lang="en-US" sz="3600" spc="-1" strike="noStrike" cap="all">
                <a:solidFill>
                  <a:srgbClr val="ffff00"/>
                </a:solidFill>
                <a:latin typeface="Comic Sans MS"/>
              </a:rPr>
              <a:t>The role of cooperatives in opening new marketing channel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agriculture</a:t>
            </a: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sector working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9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ecember 2011, 11:00 –12:3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inistry of Agricultur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4038120" cy="5744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Promote and market Palestinian produc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ionally, regionally and internationall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duce the problems of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xcess production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enhance the framers to diversify their crop productio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1" name="Content Placeholder 8" descr="IMG_0186.JPG"/>
          <p:cNvPicPr/>
          <p:nvPr/>
        </p:nvPicPr>
        <p:blipFill>
          <a:blip r:embed="rId1"/>
          <a:stretch/>
        </p:blipFill>
        <p:spPr>
          <a:xfrm>
            <a:off x="4952880" y="457200"/>
            <a:ext cx="3733560" cy="2800080"/>
          </a:xfrm>
          <a:prstGeom prst="rect">
            <a:avLst/>
          </a:prstGeom>
          <a:ln w="9525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30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828593A6-4BBE-48C4-AC06-FFDA2966266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9" descr="IMG_0591.JPG"/>
          <p:cNvPicPr/>
          <p:nvPr/>
        </p:nvPicPr>
        <p:blipFill>
          <a:blip r:embed="rId2"/>
          <a:stretch/>
        </p:blipFill>
        <p:spPr>
          <a:xfrm>
            <a:off x="4952880" y="3505320"/>
            <a:ext cx="3657240" cy="2742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5280" y="274680"/>
            <a:ext cx="7391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Economic and financial advantages</a:t>
            </a: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486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ore production-opportunitie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income is generated to the cooperativ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ccessibility of rural products to marke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enhanc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velop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arketing skill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f cooperativ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31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79C9A498-6B85-4321-B2D6-7C1A6632A02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3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695720" cy="5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7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Social impact on the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085760"/>
            <a:ext cx="8724600" cy="539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nhancement of cooperation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etween small farmers and existing cooperatives and women clubs in the rural communities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Strengthening socioeconomic and  livelihood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f the small farmers and create job opportunities in the marginalized rural communitie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mpower the social responsibility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f CBOs towards their communit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nhancing </a:t>
            </a: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ffective leader ship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d </a:t>
            </a: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mpowering the role of small and marginalized farmers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(male and female)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ncouraging young farmers to continue cultivating their land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ich assists in reducing the migration process from rural to urban centers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3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9D082D6-B592-4628-A436-9569537CAFE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3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Future avenues: Marketing challeng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2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High cost of production inpu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duce the competitivenes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Products quality consistency and stabilit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easonality of production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instable availability of commodities and pricing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Business management and innovation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reate new recipes, and reach feasible production syste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xportation opportunitie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omparativeness and controlled borders by the Occup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3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DA1AD343-06DE-41DE-82D1-77DDB883B14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36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800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Thank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ldNum" idx="3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83345DF-8B32-40F0-9037-6BAAA4783BA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3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4" descr="New Farm-logo.jpg"/>
          <p:cNvPicPr/>
          <p:nvPr/>
        </p:nvPicPr>
        <p:blipFill>
          <a:blip r:embed="rId1"/>
          <a:stretch/>
        </p:blipFill>
        <p:spPr>
          <a:xfrm>
            <a:off x="1828800" y="152280"/>
            <a:ext cx="5257440" cy="4290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Who we are</a:t>
            </a: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8000"/>
          </a:bodyPr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Farm Company was established in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2000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s a private limited shareholding company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wned in total by its founders;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a group of socially conscious agricultural cooperativ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 Peasants Union and two Palestinian non-governmental organizations dedicated for working in the fields of scientific research, social and economic agricultural developmen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should be emphasized that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production cooperatives – especially rural women cooperatives are eligible for holding capital shares in the compan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55B8A8FE-73B2-4B74-88AE-7A9D1612651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2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What is our business</a:t>
            </a: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281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8000"/>
          </a:bodyPr>
          <a:p>
            <a:pPr marL="521640" indent="-39096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FC's core business is food processing and marketing.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More specifically, NFC was established to offer the highest quality and value of traditional home-style foods produced by Palestinian cooperativ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using local inputs and raw materials free of unsafe and unhealthy chemical ingredien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01E4C098-EAFF-4202-BF4B-137347B30C3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3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6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178" name="Picture 6" descr="DSCF3700.JPG"/>
          <p:cNvPicPr/>
          <p:nvPr/>
        </p:nvPicPr>
        <p:blipFill>
          <a:blip r:embed="rId2"/>
          <a:stretch/>
        </p:blipFill>
        <p:spPr>
          <a:xfrm>
            <a:off x="2521080" y="3657600"/>
            <a:ext cx="4641480" cy="2514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076960" cy="335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FC answers the call of </a:t>
            </a:r>
            <a:r>
              <a:rPr b="0" i="1" lang="en-US" sz="3200" spc="-1" strike="noStrike">
                <a:solidFill>
                  <a:srgbClr val="ffff00"/>
                </a:solidFill>
                <a:latin typeface="Book Antiqua"/>
              </a:rPr>
              <a:t>knowledgeable consumer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locally and internationally – who look for time-honored traditional </a:t>
            </a:r>
            <a:r>
              <a:rPr b="0" i="1" lang="en-US" sz="3200" spc="-1" strike="noStrike">
                <a:solidFill>
                  <a:srgbClr val="ffff00"/>
                </a:solidFill>
                <a:latin typeface="Book Antiqua"/>
              </a:rPr>
              <a:t>Palestinian recipes that are passed through generation, rich with heritage, authentic and real down home – style traditional food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Content Placeholder 8" descr="HPIM9553.JPG"/>
          <p:cNvPicPr/>
          <p:nvPr/>
        </p:nvPicPr>
        <p:blipFill>
          <a:blip r:embed="rId1"/>
          <a:stretch/>
        </p:blipFill>
        <p:spPr>
          <a:xfrm>
            <a:off x="2666880" y="3809880"/>
            <a:ext cx="3688920" cy="2614320"/>
          </a:xfrm>
          <a:prstGeom prst="rect">
            <a:avLst/>
          </a:prstGeom>
          <a:ln w="9525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63258332-BED2-446F-9039-541CADBAD74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3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27468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Mission, Our values and Vision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71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FC's mission; Social responsibility and unwavering commitment to quality and safe product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just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y virtue of the mandate of NFC founding organizations, </a:t>
            </a:r>
            <a:r>
              <a:rPr b="0" i="1" lang="en-US" sz="2400" spc="-1" strike="noStrike">
                <a:solidFill>
                  <a:srgbClr val="ffff00"/>
                </a:solidFill>
                <a:latin typeface="Book Antiqua"/>
              </a:rPr>
              <a:t>it works to promote economic and social development networks between NFC share-holders organization on one hand, and contributing to the agricultural and rural development in Palestine on the other hand.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perating on a commercial basis, NFC is committed to the principles of cooperative growth and economic empowerment of rural wom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just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FC works with its shareholders and through them in pursuing tirelessly growth opportunities; while adhering to the highest ethical conduct in all of our business dealing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019F19B2-A23C-48CE-A593-1D3BCB08675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5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4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ont</a:t>
            </a: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……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240" cy="326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1000"/>
          </a:bodyPr>
          <a:p>
            <a:pPr marL="498960" indent="-3744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strive to be known for our consistent high quality traditional food products, and business concept values.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Our consumers will distinguish our brands; come to love them, and recommend them to others; their reliability to, and satisfaction of, our products will be the key of our succe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9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9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2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2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CA81C322-F2DB-4016-B071-7E9D0515F1B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193" name="Picture 7" descr="HPIM9544.JPG"/>
          <p:cNvPicPr/>
          <p:nvPr/>
        </p:nvPicPr>
        <p:blipFill>
          <a:blip r:embed="rId2"/>
          <a:stretch/>
        </p:blipFill>
        <p:spPr>
          <a:xfrm>
            <a:off x="0" y="0"/>
            <a:ext cx="4038120" cy="3028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403812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customers will derive satisfaction from knowing that their purchasing of NFC products has helped a large sector of Palestinian indigenous farmers and rural women in sustaining their livelihoo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Content Placeholder 8" descr="HPIM9631.JPG"/>
          <p:cNvPicPr/>
          <p:nvPr/>
        </p:nvPicPr>
        <p:blipFill>
          <a:blip r:embed="rId1"/>
          <a:stretch/>
        </p:blipFill>
        <p:spPr>
          <a:xfrm>
            <a:off x="4724280" y="1981080"/>
            <a:ext cx="4120920" cy="3090600"/>
          </a:xfrm>
          <a:prstGeom prst="rect">
            <a:avLst/>
          </a:prstGeom>
          <a:ln w="9525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4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35ECC3D0-BCCD-4435-86BB-02469542626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Selection of producers</a:t>
            </a: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240" cy="5089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ctive Agricultural cooperatives and women club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roups who have a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ocial responsibility towards their communiti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roups who are ready to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participate actively in developing the Palestinian rural communiti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mall agro- productive groups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o face problems in marketing (with main focus on women groups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rural producers who is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protecting the Geographic Identit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f the Palestinian agro-products and food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2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2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B61FB00F-4127-4AAD-8A44-6F3A28745A4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00064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What is the role of the company: Added value and expertise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6095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0000"/>
          </a:bodyPr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prove the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ality of the Palestinian rural product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match the national and international standar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k on minimizing production costs to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aximize farmer/cooperative profit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nhance the access of Palestinian consum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the locally made food with comparative pric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ign suitable packaging and labeling that reflects the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uniqueness, culture and the nutritional value of the company and it related CBOs produc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288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8054BD7-6E58-4439-986D-D0375376062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2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208" name="Picture 6" descr="IMG_1584.JPG"/>
          <p:cNvPicPr/>
          <p:nvPr/>
        </p:nvPicPr>
        <p:blipFill>
          <a:blip r:embed="rId2"/>
          <a:stretch/>
        </p:blipFill>
        <p:spPr>
          <a:xfrm>
            <a:off x="6781680" y="3886200"/>
            <a:ext cx="1828440" cy="2437920"/>
          </a:xfrm>
          <a:prstGeom prst="rect">
            <a:avLst/>
          </a:prstGeom>
          <a:ln w="9525">
            <a:noFill/>
          </a:ln>
        </p:spPr>
      </p:pic>
      <p:pic>
        <p:nvPicPr>
          <p:cNvPr id="209" name="Picture 7" descr="IMG_0245.JPG"/>
          <p:cNvPicPr/>
          <p:nvPr/>
        </p:nvPicPr>
        <p:blipFill>
          <a:blip r:embed="rId3"/>
          <a:stretch/>
        </p:blipFill>
        <p:spPr>
          <a:xfrm>
            <a:off x="6093000" y="1295280"/>
            <a:ext cx="3050640" cy="2196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1018</TotalTime>
  <Application>LibreOffice/7.4.7.2$Linux_X86_64 LibreOffice_project/40$Build-2</Application>
  <AppVersion>15.0000</AppVersion>
  <Words>765</Words>
  <Paragraphs>9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4:57:09Z</dcterms:created>
  <dc:creator>haitham</dc:creator>
  <dc:description/>
  <dc:language>en-US</dc:language>
  <cp:lastModifiedBy>haitham</cp:lastModifiedBy>
  <dcterms:modified xsi:type="dcterms:W3CDTF">2011-12-17T19:21:38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4</vt:r8>
  </property>
</Properties>
</file>