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1C5-80A2-40C4-A93B-0DF7A0A5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8D2-2576-4D81-B3A7-7FC17751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FD4-2430-43E3-827B-171106BA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7DD-F805-4123-929E-FD7BCE44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9FBD-D2F0-4E7B-AEC8-68532C5D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48D9-210D-4BC5-9DD8-FA606C41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39FD-29B1-44F0-97B0-634BDC59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7BEC-D463-4E60-9FF4-5DBFB039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F404-4A75-4C65-96A4-0F45D9E9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CFBD-3AC2-45A2-8EB1-9E7A9BBB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1E03-E925-450A-96A7-F4C32CCA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9EE-C989-4FD6-91EF-0AE41372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D360-5ACA-4B50-A4C6-315EC12B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8209-8601-49C1-A242-AA1E165A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396F-CB50-42FB-98BB-4DA20115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982C-D4C6-4FA0-90B6-2456739B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0BA7-524B-4EF7-BC7D-A5D11499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D095-1715-4F8B-97DA-9E2707CA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23D94-1092-49CC-99FE-5CA1D073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2E69-680C-49EF-B281-BEDF54E1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03C2-321D-4574-8C4B-FEF6624F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B79C4-0D5C-4D2D-B138-41DC2985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911-BB8C-4E30-A692-4A62366F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AC43-C78A-4540-9244-C2E183DC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A9A1-AB4F-47BE-A2F1-DF7E0437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29A4-25F7-45B5-B5DF-CF9A319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D93A1-5950-4E4F-A863-7A121B84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1CD5-50CC-4BF8-B378-680FDD27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8548-5755-4DC9-82FB-B7C9E84C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2FCD-2901-4041-81EF-C69FBDA9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587B7-105D-42D9-8053-DEF7D993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C3DA6-E22F-4161-87E6-5B4CB130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F3C4-4B24-4A86-82BD-32632504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BD4-9645-4614-9D95-5552743F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B7C0-B9BA-480C-B8B2-E8A2700C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11F67-2459-4CA7-9AC2-A9E6F1E0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484C-3FA0-49D1-84FE-EDC7963C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485C-E532-40B8-89D5-069C251C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4296-640C-4643-9349-A2E06C5D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4480-3A87-45EE-B275-7396C7AB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5ACA-58D8-4C04-A4EF-C8F3FE19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33DD-6A23-4B8E-A2AA-E5099A7D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5E95-A52E-4D94-9432-8C8F3D85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777-26BD-474D-9E29-3F7F1D4A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AD8-CCA8-4E20-94F1-01BE3D19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627-D50A-4BF0-ABCF-1655DF3B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75D-9172-48DE-A2BA-E8F0FC4C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305-799A-47C2-A094-C888773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A349A9C-678B-4479-8BCD-4986FF3AF56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EA0B53D-AE54-4E0F-B820-61A8FE88743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f3da8c"/>
                </a:solidFill>
                <a:latin typeface="Lucida Sans"/>
              </a:rPr>
              <a:t>Click to edit Master title sty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3007800" cy="460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 rtl="1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1123C7C-CC23-4BB3-872F-0A5C8E78D6A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656A629C-CBCC-48D1-8414-DFA9C0DE6E7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581600" cy="487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ff8a3b"/>
                </a:solidFill>
                <a:latin typeface="Comic Sans MS"/>
              </a:rPr>
              <a:t>New Farm Company for Marketing and Agricultural processing (NFC)</a:t>
            </a:r>
            <a:br>
              <a:rPr sz="3600"/>
            </a:br>
            <a:br>
              <a:rPr sz="3600"/>
            </a:br>
            <a:r>
              <a:rPr b="1" lang="en-US" sz="3600" spc="-1" strike="noStrike" cap="all">
                <a:solidFill>
                  <a:srgbClr val="ffff00"/>
                </a:solidFill>
                <a:latin typeface="Comic Sans MS"/>
              </a:rPr>
              <a:t>The role of cooperatives in opening new marketing channel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agriculture</a:t>
            </a: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sector working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9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cember 2011, 11:00 –12:3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inistry of Agricultur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4038120" cy="574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mote and market Palestinian produc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ionally, regionally and internationall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duce the problems of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cess produc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enhance the framers to diversify their crop productio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1" name="Content Placeholder 8" descr="IMG_0186.JPG"/>
          <p:cNvPicPr/>
          <p:nvPr/>
        </p:nvPicPr>
        <p:blipFill>
          <a:blip r:embed="rId1"/>
          <a:stretch/>
        </p:blipFill>
        <p:spPr>
          <a:xfrm>
            <a:off x="4952880" y="457200"/>
            <a:ext cx="3733560" cy="280008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30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9C9F0A4-6A79-4C85-96ED-96B585470E6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9" descr="IMG_0591.JPG"/>
          <p:cNvPicPr/>
          <p:nvPr/>
        </p:nvPicPr>
        <p:blipFill>
          <a:blip r:embed="rId2"/>
          <a:stretch/>
        </p:blipFill>
        <p:spPr>
          <a:xfrm>
            <a:off x="4952880" y="3505320"/>
            <a:ext cx="3657240" cy="2742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391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Economic and financial advantage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48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ore production-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income is generated to the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ccessibility of rural products to marke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enhanc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rketing skill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31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9A653BA-F758-42F2-B4A7-9F0CC80F365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695720" cy="5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ocial impact on the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085760"/>
            <a:ext cx="8724600" cy="539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hancement of cooperation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etween small farmers and existing cooperatives and women clubs in the rural communitie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Strengthening socioeconomic and  livelihoo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the small farmers and create job opportunities in the marginalized rural communiti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 the social responsibility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CBOs towards their communi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nhancing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ffective leader ship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d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ing the role of small and marginalized farmer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(male and female)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couraging young farmers to continue cultivating their land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ich assists in reducing the migration process from rural to urban center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3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9B9A8E1-4F74-4EF0-9062-25C33E42650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3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Future avenues: Marketing challeng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2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High cost of production inpu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duce the competitivenes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ducts quality consistency and stabilit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easonality of production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instable availability of commodities and pric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usiness management and innova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reate new recipes, and reach feasible production syste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portation 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omparativeness and controlled borders by the Occup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6C7B2DB-5380-44EB-9AC2-DCC41404935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3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800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Thank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Num" idx="3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6F4F34B-B8F2-44C9-8814-025A9F71C3D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3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4" descr="New Farm-logo.jpg"/>
          <p:cNvPicPr/>
          <p:nvPr/>
        </p:nvPicPr>
        <p:blipFill>
          <a:blip r:embed="rId1"/>
          <a:stretch/>
        </p:blipFill>
        <p:spPr>
          <a:xfrm>
            <a:off x="1828800" y="152280"/>
            <a:ext cx="5257440" cy="4290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Who we are</a:t>
            </a: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Farm Company was established in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200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s a private limited shareholding company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wned in total by its founders;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a group of socially conscious agricultural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 Peasants Union and two Palestinian non-governmental organizations dedicated for working in the fields of scientific research, social and economic agricultural developmen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hould be emphasized that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production cooperatives – especially rural women cooperatives are eligible for holding capital shares in the compan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D932E40-6F2E-4CA1-913A-0B2D35FDCC0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What is our business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281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FC's core business is food processing and marketing.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More specifically, NFC was established to offer the highest quality and value of traditional home-style foods produced by Palestinian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using local inputs and raw materials free of unsafe and unhealthy chemical ingredi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493CE336-1EA9-43A0-8BF1-EFDAA874038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6" descr="DSCF3700.JPG"/>
          <p:cNvPicPr/>
          <p:nvPr/>
        </p:nvPicPr>
        <p:blipFill>
          <a:blip r:embed="rId2"/>
          <a:stretch/>
        </p:blipFill>
        <p:spPr>
          <a:xfrm>
            <a:off x="2521080" y="3657600"/>
            <a:ext cx="4641480" cy="2514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076960" cy="335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FC answers the call of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knowledgeable consume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locally and internationally – who look for time-honored traditional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Palestinian recipes that are passed through generation, rich with heritage, authentic and real down home – style traditional food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Content Placeholder 8" descr="HPIM9553.JPG"/>
          <p:cNvPicPr/>
          <p:nvPr/>
        </p:nvPicPr>
        <p:blipFill>
          <a:blip r:embed="rId1"/>
          <a:stretch/>
        </p:blipFill>
        <p:spPr>
          <a:xfrm>
            <a:off x="2666880" y="3809880"/>
            <a:ext cx="3688920" cy="261432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1D30A70-C7D4-43A6-9974-BDB6A1F9376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Mission, Our values and Vis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's mission; Social responsibility and unwavering commitment to quality and safe product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virtue of the mandate of NFC founding organizations, </a:t>
            </a:r>
            <a:r>
              <a:rPr b="0" i="1" lang="en-US" sz="2400" spc="-1" strike="noStrike">
                <a:solidFill>
                  <a:srgbClr val="ffff00"/>
                </a:solidFill>
                <a:latin typeface="Book Antiqua"/>
              </a:rPr>
              <a:t>it works to promote economic and social development networks between NFC share-holders organization on one hand, and contributing to the agricultural and rural development in Palestine on the other hand.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rating on a commercial basis, NFC is committed to the principles of cooperative growth and economic empowerment of rural wom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 works with its shareholders and through them in pursuing tirelessly growth opportunities; while adhering to the highest ethical conduct in all of our business dealing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1044823-F43E-480E-A891-AA23035C6DE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5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4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ont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……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240" cy="326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1000"/>
          </a:bodyPr>
          <a:p>
            <a:pPr marL="498960" indent="-3744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strive to be known for our consistent high quality traditional food products, and business concept values.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Our consumers will distinguish our brands; come to love them, and recommend them to others; their reliability to, and satisfaction of, our products will be the key of our succe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2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2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5B61397-70BB-457C-8FCC-3B90203131C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7" descr="HPIM9544.JPG"/>
          <p:cNvPicPr/>
          <p:nvPr/>
        </p:nvPicPr>
        <p:blipFill>
          <a:blip r:embed="rId2"/>
          <a:stretch/>
        </p:blipFill>
        <p:spPr>
          <a:xfrm>
            <a:off x="0" y="0"/>
            <a:ext cx="4038120" cy="302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12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customers will derive satisfaction from knowing that their purchasing of NFC products has helped a large sector of Palestinian indigenous farmers and rural women in sustaining their livelihoo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Content Placeholder 8" descr="HPIM9631.JPG"/>
          <p:cNvPicPr/>
          <p:nvPr/>
        </p:nvPicPr>
        <p:blipFill>
          <a:blip r:embed="rId1"/>
          <a:stretch/>
        </p:blipFill>
        <p:spPr>
          <a:xfrm>
            <a:off x="4724280" y="1981080"/>
            <a:ext cx="4120920" cy="3090600"/>
          </a:xfrm>
          <a:prstGeom prst="rect">
            <a:avLst/>
          </a:prstGeom>
          <a:ln w="9525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4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F2F3F868-BC46-40D9-9419-B5714D8DEEF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election of producer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240" cy="508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Agricultural cooperatives and women club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have a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ocial responsibility towards their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are ready to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articipate actively in developing the Palestinian rural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mall agro- productive group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o face problems in marketing (with main focus on women groups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ural producers who is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rotecting the Geographic Identit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f the Palestinian agro-products and food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2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2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18BBCDB-2720-4220-B121-8C59B710D9E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0064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hat is the role of the company: Added value and expertise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095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0000"/>
          </a:bodyPr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rove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ality of the Palestinian rural produc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match the national and international standa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 on minimizing production costs to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ximize farmer/cooperative profi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nhance the access of Palestinian consum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the locally made food with comparative pric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ign suitable packaging and labeling that reflects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uniqueness, culture and the nutritional value of the company and it related CBOs produc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288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86B4103-7A99-46A0-9EE8-589B0080C08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2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208" name="Picture 6" descr="IMG_1584.JPG"/>
          <p:cNvPicPr/>
          <p:nvPr/>
        </p:nvPicPr>
        <p:blipFill>
          <a:blip r:embed="rId2"/>
          <a:stretch/>
        </p:blipFill>
        <p:spPr>
          <a:xfrm>
            <a:off x="6781680" y="3886200"/>
            <a:ext cx="1828440" cy="2437920"/>
          </a:xfrm>
          <a:prstGeom prst="rect">
            <a:avLst/>
          </a:prstGeom>
          <a:ln w="9525">
            <a:noFill/>
          </a:ln>
        </p:spPr>
      </p:pic>
      <p:pic>
        <p:nvPicPr>
          <p:cNvPr id="209" name="Picture 7" descr="IMG_0245.JPG"/>
          <p:cNvPicPr/>
          <p:nvPr/>
        </p:nvPicPr>
        <p:blipFill>
          <a:blip r:embed="rId3"/>
          <a:stretch/>
        </p:blipFill>
        <p:spPr>
          <a:xfrm>
            <a:off x="6093000" y="1295280"/>
            <a:ext cx="3050640" cy="219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018</TotalTime>
  <Application>LibreOffice/7.4.7.2$Linux_X86_64 LibreOffice_project/40$Build-2</Application>
  <AppVersion>15.0000</AppVersion>
  <Words>765</Words>
  <Paragraphs>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4:57:09Z</dcterms:created>
  <dc:creator>haitham</dc:creator>
  <dc:description/>
  <dc:language>en-US</dc:language>
  <cp:lastModifiedBy>haitham</cp:lastModifiedBy>
  <dcterms:modified xsi:type="dcterms:W3CDTF">2011-12-17T19:21:38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