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48A-EFF4-40A1-ACCB-2ABEA816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8D9-9005-469D-9597-AF858A8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B65-8C8D-4851-9D40-95637501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B3C-BD60-40C2-9DFE-218FF226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B47D-04FC-46FA-97B5-B3542FE5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07E0-E545-42B8-BB9D-22181D6A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F5D5-071E-4740-AAF3-FE639DB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2A64-AD73-43F3-9D8B-B02EB657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CFDD-7D88-4051-B2BE-FCEB0A5D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FA79-408D-4990-946E-6E8D6988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5985-8656-4303-BCFC-3A942C0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646-5619-4479-B119-32BC81A6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451D-4B74-47B2-99AC-BC00078E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F7FE-AF13-4351-81FC-780F128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E74A-0284-48BE-BB20-38D3D3D4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94AE-7765-4241-80C1-411B346F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EF11-C039-4BAC-B4B6-D5F4958C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5F5F-D732-4B80-B49E-E9031AE2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8DFC-6D40-43CD-9C8E-0332206A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F7DD-A14D-48EC-AA21-8856998F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5999-75A7-4588-BCB0-97511DEC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C7801-820C-4D76-82F8-DF6CE28B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019-D3AC-448E-93D2-DCD86A1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D93D-7626-48B0-87F1-B288C21F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F940-2E57-4BF1-BE1D-9F24EB4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A4C7-0913-4322-9083-F309457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E84B-331C-44A2-BFFE-62ED9CA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73C0-F153-4D78-94E9-6A4B6B38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0A05-500C-4DF9-8E9F-6E8F6FE3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1147-09CB-4AA6-BBAE-A71D597D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185E3-1FB3-47EC-85D7-C8E98558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443C-15E3-4BD2-9CFF-C4AF0617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EBE95-D5F5-4984-9447-9B144F87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1E6-D55A-42CB-B9EF-AFE8BB85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27E7-B2EC-446B-9EEE-E6F7178D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1B8C-54CC-4988-9BDA-2339AAA2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FE11-4950-4FF0-AC88-4572D9A7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FE00-00ED-4D51-AC08-6951A0CE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ADF8-82E9-43AA-923F-7C01D65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E5E75-4D8A-4E15-A9FD-F906E539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CABF-AAD8-4237-82D2-76FF185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1DCF-7257-4FCD-B526-E9BCF379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1613-F64A-43A5-9E42-3B939CDE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FA6-0621-458F-AAA4-73122F6F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DB2-3F86-41DF-90BB-14FD1037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A11-BDE1-434B-A641-B652AFA6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EE8-6DA5-4716-A52E-0D030F42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620-6439-41F2-A24C-C7657E5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34134A53-0B3C-4F9F-8185-66CCE4D7B41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0E9CB68-7A0D-42B4-A779-2ED4AFF022C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3da8c"/>
                </a:solidFill>
                <a:latin typeface="Lucida Sans"/>
              </a:rPr>
              <a:t>Click to edit Master title sty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7800" cy="460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 rtl="1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93EF07E-EAEC-4F4B-870E-BA127D77161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8333FBA-4D8E-49C9-BB17-F9B2423B374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581600" cy="487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ff8a3b"/>
                </a:solidFill>
                <a:latin typeface="Comic Sans MS"/>
              </a:rPr>
              <a:t>New Farm Company for Marketing and Agricultural processing (NFC)</a:t>
            </a:r>
            <a:br>
              <a:rPr sz="3600"/>
            </a:br>
            <a:br>
              <a:rPr sz="3600"/>
            </a:br>
            <a:r>
              <a:rPr b="1" lang="en-US" sz="3600" spc="-1" strike="noStrike" cap="all">
                <a:solidFill>
                  <a:srgbClr val="ffff00"/>
                </a:solidFill>
                <a:latin typeface="Comic Sans MS"/>
              </a:rPr>
              <a:t>The role of cooperatives in opening new marketing channel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agriculture</a:t>
            </a: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sector working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9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cember 2011, 11:00 –12:3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inistry of Agricultur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120" cy="574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mote and market Palestinian produc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ly, regionally and internationall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duce the problems of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cess produc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enhance the framers to diversify their crop produ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1" name="Content Placeholder 8" descr="IMG_0186.JPG"/>
          <p:cNvPicPr/>
          <p:nvPr/>
        </p:nvPicPr>
        <p:blipFill>
          <a:blip r:embed="rId1"/>
          <a:stretch/>
        </p:blipFill>
        <p:spPr>
          <a:xfrm>
            <a:off x="4952880" y="457200"/>
            <a:ext cx="3733560" cy="280008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3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23A5308-5F95-4C7F-A5B2-71810760772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9" descr="IMG_0591.JPG"/>
          <p:cNvPicPr/>
          <p:nvPr/>
        </p:nvPicPr>
        <p:blipFill>
          <a:blip r:embed="rId2"/>
          <a:stretch/>
        </p:blipFill>
        <p:spPr>
          <a:xfrm>
            <a:off x="4952880" y="3505320"/>
            <a:ext cx="3657240" cy="27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391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Economic and financial advantage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8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ore production-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income is generated to the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ccessibility of rural products to marke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enhanc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rketing skill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31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7EDFFAC-437C-4095-9F79-78A1E7A020E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69572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ocial impact on the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085760"/>
            <a:ext cx="8724600" cy="539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hancement of cooperation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etween small farmers and existing cooperatives and women clubs in the rural communitie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Strengthening socioeconomic and  livelihoo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the small farmers and create job opportunities in the marginalized rural communiti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 the social responsibility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CBOs towards their commun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hancing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ffective leader ship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d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ing the role of small and marginalized farmer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(male and female)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couraging young farmers to continue cultivating their land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ich assists in reducing the migration process from rural to urban center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B7E3F28-BA19-4DBA-96DC-F5BD28FD410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3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Future avenues: Marketing challen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High cost of production inpu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duce the competitiven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ducts quality consistency and stabilit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easonality of production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instable availability of commodities and pric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usiness management and innova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reate new recipes, and reach feasible production syste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portation 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omparativeness and controlled borders by the Occup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8BC5A92-86C2-47E4-B31F-BFF64290BD5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3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800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Thank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3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34484A3-9BB0-42A4-9939-4596D3C4C30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4" descr="New Farm-logo.jpg"/>
          <p:cNvPicPr/>
          <p:nvPr/>
        </p:nvPicPr>
        <p:blipFill>
          <a:blip r:embed="rId1"/>
          <a:stretch/>
        </p:blipFill>
        <p:spPr>
          <a:xfrm>
            <a:off x="1828800" y="152280"/>
            <a:ext cx="5257440" cy="4290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Who we are</a:t>
            </a: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Farm Company was established in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s a private limited shareholding company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wned in total by its founders;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a group of socially conscious agricultural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 Peasants Union and two Palestinian non-governmental organizations dedicated for working in the fields of scientific research, social and economic agricultural developmen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hould be emphasized that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production cooperatives – especially rural women cooperatives are eligible for holding capital shares in the compan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6810554-FFAC-4083-B576-78EB2844EFF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What is our business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81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FC's core business is food processing and marketing.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More specifically, NFC was established to offer the highest quality and value of traditional home-style foods produced by Palestinian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using local inputs and raw materials free of unsafe and unhealthy chemical ingredi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BD39B50-BB16-4A53-BAC6-BCC276D4A18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6" descr="DSCF3700.JPG"/>
          <p:cNvPicPr/>
          <p:nvPr/>
        </p:nvPicPr>
        <p:blipFill>
          <a:blip r:embed="rId2"/>
          <a:stretch/>
        </p:blipFill>
        <p:spPr>
          <a:xfrm>
            <a:off x="2521080" y="3657600"/>
            <a:ext cx="4641480" cy="251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076960" cy="335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FC answers the call of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knowledgeable consume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locally and internationally – who look for time-honored traditional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Palestinian recipes that are passed through generation, rich with heritage, authentic and real down home – style traditional foo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Content Placeholder 8" descr="HPIM9553.JPG"/>
          <p:cNvPicPr/>
          <p:nvPr/>
        </p:nvPicPr>
        <p:blipFill>
          <a:blip r:embed="rId1"/>
          <a:stretch/>
        </p:blipFill>
        <p:spPr>
          <a:xfrm>
            <a:off x="2666880" y="3809880"/>
            <a:ext cx="3688920" cy="261432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1C1211A-C3E8-460F-8B26-CA272A052C6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Mission, Our values and Vis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's mission; Social responsibility and unwavering commitment to quality and safe product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virtue of the mandate of NFC founding organizations, </a:t>
            </a:r>
            <a:r>
              <a:rPr b="0" i="1" lang="en-US" sz="2400" spc="-1" strike="noStrike">
                <a:solidFill>
                  <a:srgbClr val="ffff00"/>
                </a:solidFill>
                <a:latin typeface="Book Antiqua"/>
              </a:rPr>
              <a:t>it works to promote economic and social development networks between NFC share-holders organization on one hand, and contributing to the agricultural and rural development in Palestine on the other hand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rating on a commercial basis, NFC is committed to the principles of cooperative growth and economic empowerment of rural wom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 works with its shareholders and through them in pursuing tirelessly growth opportunities; while adhering to the highest ethical conduct in all of our business dealing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29482CD-23C2-4D26-B491-853BFFA9FFB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5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4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ont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……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240" cy="326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1000"/>
          </a:bodyPr>
          <a:p>
            <a:pPr marL="498960" indent="-3744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strive to be known for our consistent high quality traditional food products, and business concept values.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Our consumers will distinguish our brands; come to love them, and recommend them to others; their reliability to, and satisfaction of, our products will be the key of our succe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2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2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ED13645-888A-425A-9E13-71AE46DB08C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7" descr="HPIM9544.JPG"/>
          <p:cNvPicPr/>
          <p:nvPr/>
        </p:nvPicPr>
        <p:blipFill>
          <a:blip r:embed="rId2"/>
          <a:stretch/>
        </p:blipFill>
        <p:spPr>
          <a:xfrm>
            <a:off x="0" y="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customers will derive satisfaction from knowing that their purchasing of NFC products has helped a large sector of Palestinian indigenous farmers and rural women in sustaining their livelihoo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Content Placeholder 8" descr="HPIM9631.JPG"/>
          <p:cNvPicPr/>
          <p:nvPr/>
        </p:nvPicPr>
        <p:blipFill>
          <a:blip r:embed="rId1"/>
          <a:stretch/>
        </p:blipFill>
        <p:spPr>
          <a:xfrm>
            <a:off x="4724280" y="1981080"/>
            <a:ext cx="4120920" cy="3090600"/>
          </a:xfrm>
          <a:prstGeom prst="rect">
            <a:avLst/>
          </a:prstGeom>
          <a:ln w="9525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BD94EE2-E498-413D-BA3D-F92308DCD37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election of producer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240" cy="508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Agricultural cooperatives and women club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have a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ocial responsibility towards their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are ready to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articipate actively in developing the Palestinian rural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mall agro- productive group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face problems in marketing (with main focus on women groups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ural producers who is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rotecting the Geographic Identit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f the Palestinian agro-products and food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2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2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915D10B-2DB9-4FA8-9EC1-40D9F7577F3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0064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hat is the role of the company: Added value and expertise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095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0000"/>
          </a:bodyPr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rove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ality of the Palestinian rural produc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match the national and international standa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 on minimizing production costs to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ximize farmer/cooperative profi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nhance the access of Palestinian consum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the locally made food with comparative pric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suitable packaging and labeling that reflects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uniqueness, culture and the nutritional value of the company and it related CBOs produc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288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6DC0ABD-272A-405F-8BC4-8D1B7E4B027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2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6" descr="IMG_1584.JPG"/>
          <p:cNvPicPr/>
          <p:nvPr/>
        </p:nvPicPr>
        <p:blipFill>
          <a:blip r:embed="rId2"/>
          <a:stretch/>
        </p:blipFill>
        <p:spPr>
          <a:xfrm>
            <a:off x="6781680" y="3886200"/>
            <a:ext cx="1828440" cy="243792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7" descr="IMG_0245.JPG"/>
          <p:cNvPicPr/>
          <p:nvPr/>
        </p:nvPicPr>
        <p:blipFill>
          <a:blip r:embed="rId3"/>
          <a:stretch/>
        </p:blipFill>
        <p:spPr>
          <a:xfrm>
            <a:off x="6093000" y="1295280"/>
            <a:ext cx="3050640" cy="219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018</TotalTime>
  <Application>LibreOffice/7.4.7.2$Linux_X86_64 LibreOffice_project/40$Build-2</Application>
  <AppVersion>15.0000</AppVersion>
  <Words>765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57:09Z</dcterms:created>
  <dc:creator>haitham</dc:creator>
  <dc:description/>
  <dc:language>en-US</dc:language>
  <cp:lastModifiedBy>haitham</cp:lastModifiedBy>
  <dcterms:modified xsi:type="dcterms:W3CDTF">2011-12-17T19:21:38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